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F8C-1D1B-4C93-ACE5-6FD1F554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279-DAE7-4768-8DD9-754C0C4A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4AD-6B46-4D55-B90A-867D7AB6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312-2828-4D26-BC82-9365E41C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B3D-B90F-4ACC-A21B-2431CBA8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EF5-5709-40BA-8453-7B5A21F3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EFB-B144-4E88-BF8C-7C198EA9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487-D787-420F-A988-C88B3EA1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9C7-85E5-459A-AA53-D0FCA49C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738-8633-4C2E-8959-CA79A410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9E7-14F0-46BB-9E39-8D25A54B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07F-E9D7-4480-AAA4-2784BABE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5FF9-56A8-4C66-A821-65B0365848A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40" y="1440"/>
          <a:ext cx="913932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40"/>
                    <a:ext cx="913932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40" y="1440"/>
          <a:ext cx="913932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40"/>
                    <a:ext cx="913932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40" y="1440"/>
          <a:ext cx="913932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40"/>
                    <a:ext cx="913932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40" y="1440"/>
          <a:ext cx="913932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40"/>
                    <a:ext cx="913932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1440"/>
          <a:ext cx="913932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40"/>
                    <a:ext cx="913932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440" y="1440"/>
          <a:ext cx="9139320" cy="6853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40"/>
                    <a:ext cx="913932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5:26:14Z</dcterms:created>
  <dc:creator>Gyügyei Tamás</dc:creator>
  <dc:description/>
  <dc:language>en-US</dc:language>
  <cp:lastModifiedBy>Gyügyei Tamás</cp:lastModifiedBy>
  <dcterms:modified xsi:type="dcterms:W3CDTF">2004-06-13T05:26:23Z</dcterms:modified>
  <cp:revision>1</cp:revision>
  <dc:subject/>
  <dc:title>PowerPoint bemutató</dc:title>
</cp:coreProperties>
</file>